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6B4-09BB-4A66-A4E2-536F28F0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D11-8688-4444-B87F-5DD747E1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FEF-F739-41F4-AC96-D83A682D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04B-357C-44E1-A67C-C69A74FC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E1C-3F24-4EEC-A1D6-7EA35436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F23-F6B4-479C-A446-05C72FCA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26A-4B0D-4DF2-9E0A-E867D3F2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981-EE20-4F67-80AB-AB8E5103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E28-9244-4552-A5F4-2B77BCBF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B5B-C395-405D-9825-CF19254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6D8-77D5-4150-BA2F-74F14DF8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C41-E6B4-4545-8A72-68D6815E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66F0-9DFE-498A-B282-318F0F5162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skussion eines neuen Präventionsgesetzes in Deutsch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ent der Förderung von Gesundheit und der Prävention von Erkrank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e demografische Entwicklung fordert ein Gesamtkonze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Zielgru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2666880"/>
            <a:ext cx="3733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ugendli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rwachs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Ältere Mens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äventive Ansätz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Individuelle Leistungen und Verhaltensän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Settingleistungen im Rahmen von Projekten in der direkten Lebensumw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Betriebliche Gesundheitsför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Patientenrechte, Patientenverfüg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Transparenz, Beteiligungsrech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Infektionsschu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5142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e mitwirkenden Zielgruppen sind aufgefüh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Ärztliche Verantwortung und Mitarbeit in keinem der Punkte inhaltlich verank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Praeventionsangebote in Deutsch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rebsfrüherken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Check-up 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Haut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Früherkennungsprogramm für Kinder und Jugendliche bis zum 16. Lebensja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Mutterschaftsvors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Impf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Medizinische Vorsorge für Mütter und Vä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Praeventionsangebote in Deutsch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rsorge mit den folgend aufgeführten Inhalten ist kostenfrei (keine Praxisgebü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nn kein Nachweis einer regelmäßigen Inanspruchnahme der Früherkennungsuntersuchungen erfolgt dann wird bei Erkrankung eine erhöhte Zuzahlung von 2 Prozent für Arznei-, Verband-, Heil- und Hilfsmittel fällig (normal 1 Prozent der jährlichen Bruttoeinnahmen zum Lebensunterha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utterschaftsvorsor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Inhalte sind in der Sitzung in Budapest erläutert wu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Einige Krankenkasse (DAK, einige BKK) haben ein zusätzliches Angebot zur Reduktion der Frühgeburtenrate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Diagnostik der bakteriellen Vagin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zusätzliche Sonograph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eck-up 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b dem 35. Lebensjahr alle 2 Jah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usarzt oder Intern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hwerpunkt Herz- Kreislauferkrank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abetes melli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ierenerkrank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Individuelles Risikoprofil analysier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örperliche Untersuchung (manue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lutdruckkontr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Urinpr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lutwerte (Cholesterin, evtl. HDL/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Gluc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Harnsä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reatin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EKG, wenn indizi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rebsfrüherkennungsprogra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ähr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auen ab 20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änner ab 4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tersabhängiger Leistungsinh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mfasst Genital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ckdarm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91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20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nam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Untersuchung äußere und innere Geni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Zervixab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esundheitliche Versorgu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95480" y="2285640"/>
            <a:ext cx="3353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umfaß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Prä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Akutbehand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Rehabil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Pf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sundheit, Lebensqualität, Selbstbestimmung und Beschäftigungsfähigkeit altersgerecht zu erhalten und zu verstä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30. Lebensjahr zusätz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alpation der Mamm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nleitung zur Selbstuntersuchung der B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Untersuchung von Hautveränderu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800" y="297144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0. Lebensjahr zusätz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rectale Pal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aemoccult jähr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5. Lebensjah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lle 2 Jahre Haemoc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Coloskopie mit Anspruch auf 2. nach 10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30477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Von 50 bis 69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lle 24 Monate Mammographie-Scre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6858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bis 25. Geburts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jährlich Chlamydienab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ä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560" y="228564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 4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am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tersuchung äußere Geni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tersuchung Prost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tersuchung Hautveränder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ä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0. Lebensjahr zusätz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rectale Pal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Untersuchung regionärer Lymphkno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jährlich Haemoc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ä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lle 2 Jahre Haemoc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Coloskopie mit Anspruch auf zweite nach  10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Haut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 3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e 2 Jah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inder- Vorso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27428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1- U9 von Neugeborenenalter bis 6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I für Jugendliche zwischen 12 und 15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erausforderu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samtkonzept zur Betreuung und Versorgung pflegebedürftiger, behinderter und alter Mens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istungen müssen Behinderungen, chronischen Erkrankungen und Pflegebedürftigkeit entgegenwi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lkskrankheiten wie Krebs und Herz-Kreislauferkrankungen sollen zurückgedrängt werd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inder-Vorso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mfas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ktion sämtlicher Org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ktion sämtlicher Sinnesorg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ktion des Bewegungsappa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r Motor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s Hörvermö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r Sprach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r sozialen und geistigen 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601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stlegung nach dem aktuell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pfkalender der Ständigen Impfkommi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STIK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 von Kassen übern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Teta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Diphth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ertus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ib ( Haemophilus influenzae Typ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oliomy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epatitis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neumoko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 von Kassen übern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2392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neumoko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Meningoko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MMR (Masern, Mumps, Rötel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Variz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P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Influen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 von manchen Kassen übern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320040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SME  (ständig an Aktualität zunehm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dizinische Vorsorge für Mütter und Vä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25909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rsorgeleistung in Einrichtung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üttergenesungswerk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i Gefährdung der gesundheitli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twicklung des Kin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iel der 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ermeidung von Krankheits- und Krankheitsfolgeko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rbeugen von Krankhe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erhütung von arbeitsbedingten Gesundheitsgef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erhütung von Pflegebedürftigkeit und Behin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örderung der Beschäftigungsfäh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imäre 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rbeugen des erstmaligen Auftretens von Krankh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fklärung über Gesundheitsrisiken und Belast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urse für Ernäh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urse zur Stressbewäl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ückensch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uchentwö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chtprä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fektionsschu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pf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kundäre Präven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dient der Früherkennung von symptomlosen Krankheitsvor- und frühstad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Früherkennungsuntersuch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Verringerung von Morbidität und Mortalitä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rtiäre 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l der Verschlimmerung von Erkrankungen und Behinderungen vorbeu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l Folgeerkrankungen vorbeu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rankenbehandlung und Rehabili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ierter Ansatzpunk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ent dem Aufbau individueller Fähigkeiten sowie gesundheitsförderlicher Struktu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m das Maß an Selbstbestimmung zu erhö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Schlüsselpunkte der Durchsetzung der Präventionsmassnah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die Verbr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die Verteilung auf bestimmte   Bevölkerungsgru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die gesundheitliche und ökonomische Bedeutung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4:29:17Z</dcterms:created>
  <dc:creator>Kerstin Dr. med. Jäger</dc:creator>
  <dc:description/>
  <dc:language>en-US</dc:language>
  <cp:lastModifiedBy>Brigitte Ruppitsch</cp:lastModifiedBy>
  <dcterms:modified xsi:type="dcterms:W3CDTF">2008-05-26T10:56:32Z</dcterms:modified>
  <cp:revision>2</cp:revision>
  <dc:subject/>
  <dc:title>PRÄVENTION</dc:title>
</cp:coreProperties>
</file>